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A49-3459-41CC-9A3E-2188053E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135-0699-4C0D-BAEF-D25D77BE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F3A-33EB-4798-8957-E4321D8B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7CE-D3DF-497F-B23A-E1024E1D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C53-B2B1-42BD-A4DF-265D0C80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CE1-0D6F-4115-A39D-048460A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E2A-B8E8-4F49-B03A-32FF7D46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349-6F83-4C8B-AB5F-691D284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127-59CF-4B3E-AC64-7CDB097E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575-83A9-4530-806C-7896BA6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9DD-283A-4618-9C3B-664991A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3D1-5EAF-4AB5-AC05-A3AB38E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1FC-AF9B-48A9-ADCB-8BEC31D4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0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4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 la copa mundial de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opa mund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50496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 flipH="1">
            <a:off x="990360" y="2590920"/>
            <a:ext cx="11430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581280" y="1981080"/>
            <a:ext cx="0" cy="289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3352320" y="19810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3352320" y="487692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209680" y="58672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657600" cy="2701800"/>
          </a:xfrm>
          <a:prstGeom prst="rect">
            <a:avLst/>
          </a:prstGeom>
          <a:ln w="0">
            <a:noFill/>
          </a:ln>
        </p:spPr>
      </p:pic>
      <p:sp>
        <p:nvSpPr>
          <p:cNvPr id="51" name="Line 10"/>
          <p:cNvSpPr/>
          <p:nvPr/>
        </p:nvSpPr>
        <p:spPr>
          <a:xfrm flipV="1">
            <a:off x="6172200" y="1904760"/>
            <a:ext cx="990720" cy="609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5790960" y="365760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7162920" y="3657600"/>
            <a:ext cx="53316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147080" y="22464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0200" y="266688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575520" y="2057400"/>
            <a:ext cx="17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838080" y="6278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 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7139880" y="1371600"/>
            <a:ext cx="18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mús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33600" y="3962520"/>
            <a:ext cx="16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tend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315560" y="396252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9320" y="558720"/>
            <a:ext cx="6629400" cy="530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 rot="16200000">
            <a:off x="6188760" y="4326480"/>
            <a:ext cx="1981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 rot="5400000">
            <a:off x="1310760" y="27270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 rot="5400000">
            <a:off x="1575360" y="3328560"/>
            <a:ext cx="144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5029200" y="2514600"/>
            <a:ext cx="1219320" cy="2209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581280" y="2666880"/>
            <a:ext cx="259092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209680" y="2590920"/>
            <a:ext cx="236232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24480" y="4572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s pul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441440" y="4495680"/>
            <a:ext cx="185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coraz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 (3 sentences per player in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anato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6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38292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6:01:58Z</dcterms:created>
  <dc:creator>Helen Zumaeta</dc:creator>
  <dc:description/>
  <dc:language>en-US</dc:language>
  <cp:lastModifiedBy>Helen Zumaeta</cp:lastModifiedBy>
  <cp:lastPrinted>2013-03-20T18:22:22Z</cp:lastPrinted>
  <dcterms:modified xsi:type="dcterms:W3CDTF">2013-03-20T19:15:57Z</dcterms:modified>
  <cp:revision>5</cp:revision>
  <dc:subject/>
  <dc:title>Me llamo ________ Clase 6nh/il La fecha es el 20 de junio del 2011</dc:title>
</cp:coreProperties>
</file>